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4F0D-7B99-4793-A002-3D5AFE232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9C63-7CB3-4EFA-961C-76A14C342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7A9F-8172-442B-9C2E-0DAB49364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A9C5-FA5E-499B-82F5-AD8D667B1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CCBA-EA0C-49F3-907C-DB01802FA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36C6-0E2A-4F9D-BB99-C016CA4E5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76BA-9107-472C-BE9A-520463A43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C107-D940-4E5D-B2FA-01BAC37DE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583D-34EA-4543-B35C-40248BFC5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37E0C-6C53-4C8A-8503-EDB32D265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F6195-3B9E-4A5E-9740-40BC52C45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80C8B-1CC1-4ADA-B3C6-C09193A28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964DD-C18F-485B-AEF0-74101C8CB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DF2E5-31EE-48AB-8808-8E6D7A007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7B047-1043-4B93-BD6E-48254A316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BF48-BB5A-47B3-A025-555C15E62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E4425-04F1-418C-ACEB-682FCFEB2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B23F4-FD05-4955-AC13-CAA00A5AF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3CF50-9C3A-49AF-9FA7-BE4FDAE5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EEBC-C94F-438E-B7E3-59996607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24B6D-E235-4BB0-8639-E1362ABE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0E999-F3F7-433C-A9F0-D471FF295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EE299-62A8-4C34-B689-BE4DE12D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DDD0E-E505-4ABC-B795-AB6863040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F39CD-4F8B-422D-B600-44D7D871F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A6DF4-F3C0-48F2-B669-57506E2C1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A66D-5681-467D-A1B8-9637950AB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7AA79-5135-4451-9DF6-7F9DDFD0D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644DF-DD9F-4FE5-A1D5-E713B783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C36F-3013-4971-B24F-019CFA093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72ED-9D52-4130-8CC4-292B6E07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1F6C-CE66-438B-89A1-67067BC6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0757D-E388-4ED5-9163-27119AAA4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EFFF-FF59-414C-A402-24C82C7803D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8703-6677-4566-AE4B-A7ED1F3F7E1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1" name=""/>
          <p:cNvSpPr txBox="1"/>
          <p:nvPr/>
        </p:nvSpPr>
        <p:spPr>
          <a:xfrm>
            <a:off x="457200" y="2060640"/>
            <a:ext cx="8229600" cy="4416480"/>
          </a:xfrm>
          <a:prstGeom prst="rect">
            <a:avLst/>
          </a:prstGeom>
          <a:noFill/>
          <a:ln w="0">
            <a:noFill/>
          </a:ln>
        </p:spPr>
        <p:txBody>
          <a:bodyPr anchor="t">
            <a:normAutofit fontScale="96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ploring Leadership Frameworks and Making Connections</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re Capacities of Effective Leadership</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Improvement Planning</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CSM’s PRIME Leadership</a:t>
            </a:r>
            <a:endParaRPr b="0" lang="en-US" sz="3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3" name=""/>
          <p:cNvSpPr txBox="1"/>
          <p:nvPr/>
        </p:nvSpPr>
        <p:spPr>
          <a:xfrm>
            <a:off x="457200" y="2060640"/>
            <a:ext cx="8229600" cy="4416480"/>
          </a:xfrm>
          <a:prstGeom prst="rect">
            <a:avLst/>
          </a:prstGeom>
          <a:noFill/>
          <a:ln w="0">
            <a:noFill/>
          </a:ln>
        </p:spPr>
        <p:txBody>
          <a:bodyPr anchor="t">
            <a:normAutofit fontScale="94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your group…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0120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0120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01200" indent="-256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ing Leadership Frameworks</a:t>
            </a:r>
            <a:endParaRPr b="0" lang="en-US" sz="4400" spc="-1" strike="noStrike">
              <a:solidFill>
                <a:srgbClr val="0d469b"/>
              </a:solidFill>
              <a:latin typeface="Arial"/>
            </a:endParaRPr>
          </a:p>
        </p:txBody>
      </p:sp>
      <p:sp>
        <p:nvSpPr>
          <p:cNvPr id="115"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did your group star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art(s) of your map supported you in…</a:t>
            </a:r>
            <a:endParaRPr b="0" lang="en-US" sz="24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84000"/>
            <a:ext cx="8229600" cy="4724280"/>
          </a:xfrm>
          <a:prstGeom prst="rect">
            <a:avLst/>
          </a:prstGeom>
          <a:noFill/>
          <a:ln w="0">
            <a:noFill/>
          </a:ln>
        </p:spPr>
        <p:txBody>
          <a:bodyPr lIns="90000" rIns="90000" tIns="46800" bIns="46800" anchor="t">
            <a:normAutofit/>
          </a:bodyPr>
          <a:p>
            <a:pPr indent="0" algn="ctr">
              <a:lnSpc>
                <a:spcPct val="8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en we move on, people do not remember us for what we do for ourselves. They remember us for what we do for them. They are the inheritors of our wor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e of the great joys and grave responsibilities of leaders is making sure that those in their care live lives not only of success, but also of significance.</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ouzes and Posner, A Leader's Legacy, 2006</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5 Core Capacities of Effective Leadership</a:t>
            </a:r>
            <a:endParaRPr b="0" lang="en-US" sz="4000" spc="-1" strike="noStrike">
              <a:solidFill>
                <a:srgbClr val="0d469b"/>
              </a:solidFill>
              <a:latin typeface="Arial"/>
            </a:endParaRPr>
          </a:p>
        </p:txBody>
      </p:sp>
      <p:sp>
        <p:nvSpPr>
          <p:cNvPr id="105" name=""/>
          <p:cNvSpPr txBox="1"/>
          <p:nvPr/>
        </p:nvSpPr>
        <p:spPr>
          <a:xfrm>
            <a:off x="323640" y="1988640"/>
            <a:ext cx="8351640" cy="4343400"/>
          </a:xfrm>
          <a:prstGeom prst="rect">
            <a:avLst/>
          </a:prstGeom>
          <a:noFill/>
          <a:ln w="0">
            <a:noFill/>
          </a:ln>
        </p:spPr>
        <p:txBody>
          <a:bodyPr anchor="t">
            <a:normAutofit fontScale="94000"/>
          </a:bodyPr>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goal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gning resources with prioriti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collaborative learning cultur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data</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ing in courageous convers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4640"/>
            <a:ext cx="8075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07"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CSM’S PRIME Leadership Framework</a:t>
            </a:r>
            <a:endParaRPr b="0" lang="en-US" sz="4400" spc="-1" strike="noStrike">
              <a:solidFill>
                <a:srgbClr val="0d469b"/>
              </a:solidFill>
              <a:latin typeface="Arial"/>
            </a:endParaRPr>
          </a:p>
        </p:txBody>
      </p:sp>
      <p:sp>
        <p:nvSpPr>
          <p:cNvPr id="109" name=""/>
          <p:cNvSpPr txBox="1"/>
          <p:nvPr/>
        </p:nvSpPr>
        <p:spPr>
          <a:xfrm>
            <a:off x="684000" y="1988640"/>
            <a:ext cx="8002440" cy="4869000"/>
          </a:xfrm>
          <a:prstGeom prst="rect">
            <a:avLst/>
          </a:prstGeom>
          <a:noFill/>
          <a:ln w="0">
            <a:noFill/>
          </a:ln>
        </p:spPr>
        <p:txBody>
          <a:bodyPr anchor="t">
            <a:normAutofit/>
          </a:bodyPr>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quity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aching and Learning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urriculum Leadership</a:t>
            </a:r>
            <a:endParaRPr b="0" lang="en-US" sz="3600" spc="-1" strike="noStrike">
              <a:solidFill>
                <a:srgbClr val="000000"/>
              </a:solidFill>
              <a:latin typeface="Arial"/>
            </a:endParaRPr>
          </a:p>
          <a:p>
            <a:pP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Leadership</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8:50:50Z</dcterms:modified>
  <cp:revision>134</cp:revision>
  <dc:subject/>
  <dc:title>Slide 1</dc:title>
</cp:coreProperties>
</file>